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BF6-6D02-4BC1-A8AD-B5772250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A8C-3782-4A54-AC6C-EE069E97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6F1-75EA-4820-9C56-99BA9B91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DF3-5654-4CCF-BC05-E20BBB28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465-DFBF-4A28-815B-F593C1E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D61-F899-41BB-AB58-016BC426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696-ED88-4915-8FDB-DF888F7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64E-7E51-45DA-9A5A-07E79B1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45E-C05E-4C46-ABD4-4AA797F4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92-423F-4CCE-A325-283907CF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2E4-24A3-4057-8D69-3D739D2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0FD-D1F0-4C38-868A-E090D1F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B94C-4BE2-4BC3-8E04-AF6D378DF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afford to live the way t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b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 speaks very wisel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48440" cy="5286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16720" y="1916280"/>
            <a:ext cx="2158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…..how can YOU reduce, reuse, recycl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phrase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mproving the quality of life by using natural resources wisely”  (according to the exam board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91628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use them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cut down the amount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altern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91628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use them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cut down the amount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altern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b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1628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use them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cut down the amount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altern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 speaks very wisel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 speaks very wisel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5:00:42Z</dcterms:created>
  <dc:creator>sthobbsc</dc:creator>
  <dc:description/>
  <dc:language>en-US</dc:language>
  <cp:lastModifiedBy>sthobbsc</cp:lastModifiedBy>
  <dcterms:modified xsi:type="dcterms:W3CDTF">2007-01-04T15:12:03Z</dcterms:modified>
  <cp:revision>2</cp:revision>
  <dc:subject/>
  <dc:title>Can we afford to live the way that we do?</dc:title>
</cp:coreProperties>
</file>